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B55E-EBBB-449D-9E93-2FE3EF92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A34-DF15-4901-B334-59DCF17F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62ED-21D2-42E9-94AB-D70ADE12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4B7-5164-4138-9BB2-18854CD6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59F0-DB16-4EFA-BE78-B81B6E15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62C5-C904-476C-A768-49856C9A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AA70-F5E5-4E65-A45A-82040C85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607B-FF7C-435D-8911-A68CB0EC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B070-95F7-40A0-BBB5-D2ED02CF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6067-77C7-409B-88AF-81F30444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F06D-1772-460C-8A0A-7D4A475A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6CA7-EA69-4E53-91DD-252DD311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65F9-9024-43C5-9A70-20E24DB1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3F65-BB16-406C-B0FD-4DE4B62F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3620-EDDB-47FA-9E45-1EAFFCC6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7FA7-013D-43DE-B9B4-4B889014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5370-D7E5-40CA-A4E8-199353C3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B5075-CB62-4BAE-87CB-B4E0AEB7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CD0B3-324A-47DD-ACB6-1A5AF024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8B98B8-CA9E-40B6-93E7-A0D63DFB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834BD-0EDE-46C2-805D-55E635A9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37FDD-F1D5-4E63-A680-68EAAE1F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2AF-2E55-4BAA-B799-AB8AE07D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818A7-C1AC-4F49-83AD-200F9930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CF879-DE05-4A77-A8BA-4A63A8B0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DB63AE-6255-4BB7-A21A-A09E1764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D7EB7E-A462-46BB-A66E-7F8FE947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3F7A04-0D34-4680-9A71-E2C60DC1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139C2-EA3F-469C-8DE3-31EF679F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724290-10EF-48A1-A59E-971026D7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1527A8-BC86-4419-9AE4-0F926D08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264DD9-7FA4-42DC-A126-C7A35C08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C7E4AA-5535-4A53-84BB-C6205143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4FCC-E306-4583-9805-0B208BF7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1FDBDA-88EE-426E-B849-2CA2C250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64898C-4DDB-4CD8-9598-7DFA6BBD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718068-E95A-4510-800F-EE7AB9DE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2B67EE-3F00-4873-BBD6-1CFD0C67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2A7C74-053C-4702-83A7-BB8E768F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617C2-333E-4BB4-8F7E-69A3C190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DC1A85-431C-46D4-AAA8-0CF905FB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B14B41-EEF7-47A3-BEFC-C7806BEA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502A17-236E-474A-ADAE-7C216780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F27DAD-E20B-4846-B0CD-C6DF074C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D8F3-8382-4FA6-9A15-844F9913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12391F-6466-4ED6-9641-022F76EE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991EB1-097A-40B1-8E1B-6D0008A1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79C71D-527F-480A-92BE-F8A31C80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B586AF-80DE-41AB-923E-6702EEC5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9EE4E8-AB6E-44BB-9587-55D9F01A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666FB1-B199-4E4E-BA76-8CBC7512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DAC0F-5AB6-4594-B99A-D03A612C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EBF5C9-EC57-4BD8-A839-EFA73942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EE4891-530B-4FD5-9A2E-A56BC115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937D22-A9CF-4DAD-A47E-4346C732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8EC1-7348-4FC3-81B3-7D3022B4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61913E-1F30-4F9B-965C-5454422C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91569-B2BA-4B38-8C68-1888D04D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09DAA-774A-4509-AE63-E4041B06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688FC-1957-4850-8131-785C99D0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38217-2D66-466C-8014-12CE0B56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8DDB7-0F75-403F-A8BC-6237B0D0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40B80-02B9-4C3E-9252-49C662A5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824AD-9C63-4A4C-A36D-FC87894F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AB907-1175-43A1-99E3-59A0C744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4B4D1-D5A5-43A1-A3CE-43E5B553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9A2-40D6-4503-AB8D-7E7AF314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8AB07-582C-40D6-9A88-92C694D2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169BC-3C6B-48F8-B27C-47ED09B5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EEA66-5706-4915-A595-3FCB5E09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6A5855-198F-4CCB-BC05-646BE218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2D13EC-B760-4B75-AA4C-ED27AAE1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848CD5-66E2-4E1A-AFA0-D4151694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5569D1-2027-40BE-8FCB-CFCFCC55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B899F0-24BC-4AD9-BD33-196D4DBC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9DCE08-215D-4C12-858A-43F16E67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987137-70F3-4228-B7DB-B69E558A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559-30BA-4669-BC36-92104F59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AF6D45-AB1E-46C2-B2DC-B678DED4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8BD111-CE14-4CC4-B344-F8CC5DC2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9BA4B9-309D-406A-86AB-0C0F4D8C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548431-916F-42BA-AEE5-24ECEF89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4B51BF-B11D-4E73-AF46-2F63C4DF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DD417-7BF2-4116-A19A-E31578E4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4B8DA-CC45-432C-ADB6-A5217F7B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2C5B4-05FB-4305-9A07-5316ECD9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18746-ACAE-47E5-AF6E-533368BC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49BB2-60C2-42EF-B68D-E92CFDC3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9F74-3228-4034-8716-669B4DFB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CF5A5-4D8E-421A-B5E2-33700F3E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4F33D-C361-4C82-8EB8-5636F6A3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197B0-E65B-40E4-B2CD-770DCE8D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DBEBC-3065-4D9D-BCBB-5549BE07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A6409-4A9F-4404-862A-10F7F095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82C85-4D6E-485E-B0A9-F86592A5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E6693-808C-415A-9D3B-F7B4084D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4619-DBCE-480A-8D0D-15557D56C51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DB4A-CD89-4FE5-A1A2-6F925D159D4B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B791-DDA3-43FF-B874-F2EDC3BBB728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8A8E-2C54-4F06-8162-483D7EFD28B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F323-F5F5-4B9F-A63A-61331F32407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9B6F-3DCA-4C55-9F70-78523770A0BC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B046-67FC-448D-AFCD-A0F54E7D1564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1A83-66D3-41EE-82F1-70BCE08535A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HOW HISTORY INFLUENCES TEXT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odernism (1914-1939)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Think-Pair-Share: The Red Wheelbarrow</a:t>
            </a:r>
            <a:br>
              <a:rPr sz="4000"/>
            </a:b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by William Carlos Williams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202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so much depend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upon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a red wheel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barrow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glazed with rai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water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beside the whit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chickens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87656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On the left is the entire text of the Imagist poem “The Red Wheelbarrow.” 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What makes it poetry? 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ow does it exemplify Imagism? 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ake two minutes to record your thoughts on these question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n American wake-up cal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Belief in progres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merica is Eden, a beautiful land of unlimited resources and opportunity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rust in the limitless potential of each individu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50 million killed in World War I (1914-1918)—more than any prior human conflic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tock Market crash of 1929 leads to Great Depression and 25% unemployment rat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reud’s theories suggest human thought and behavior are governed by the unconscious mind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American Drea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American Realit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alues of American Modernis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752120"/>
            <a:ext cx="4038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ynical view of author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jection of traditional valu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terest in Freud and psychoanalys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ergetic desire to do something ne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Content Placeholder 12" descr="(mod7) ManRay A Night At.jpg"/>
          <p:cNvPicPr/>
          <p:nvPr/>
        </p:nvPicPr>
        <p:blipFill>
          <a:blip r:embed="rId1"/>
          <a:stretch/>
        </p:blipFill>
        <p:spPr>
          <a:xfrm>
            <a:off x="5149800" y="1589040"/>
            <a:ext cx="3276720" cy="45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American Modernism is a reaction to: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1" name="Content Placeholder 4" descr="(mod1) Dasburg Improvisation.jpg"/>
          <p:cNvPicPr/>
          <p:nvPr/>
        </p:nvPicPr>
        <p:blipFill>
          <a:blip r:embed="rId1"/>
          <a:stretch/>
        </p:blipFill>
        <p:spPr>
          <a:xfrm>
            <a:off x="762120" y="1752480"/>
            <a:ext cx="3436920" cy="4191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62" name=""/>
          <p:cNvSpPr txBox="1"/>
          <p:nvPr/>
        </p:nvSpPr>
        <p:spPr>
          <a:xfrm>
            <a:off x="4647960" y="20574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orld War 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Great Depres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hibition and gangst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oman’s suffra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reudian theorie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Characteristics of Modernist text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raditional styles, subjects and form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deal hero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Reason and rational though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old experimentation in style and form, reflecting the fragmentation of societ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lawed and disillusioned heroes who show “grace under pressure”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New narrative techniques to express inner workings of the human mind, such as stream of consciousnes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Rejection of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Emergence of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The Progression of American Thought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09480" y="1981080"/>
          <a:ext cx="8153640" cy="3479760"/>
        </p:xfrm>
        <a:graphic>
          <a:graphicData uri="http://schemas.openxmlformats.org/drawingml/2006/table">
            <a:tbl>
              <a:tblPr/>
              <a:tblGrid>
                <a:gridCol w="2718000"/>
                <a:gridCol w="2717640"/>
                <a:gridCol w="2718000"/>
              </a:tblGrid>
              <a:tr h="642600"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Gen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American 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erceived the individual  a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8280"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oman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alph Waldo Em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 g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e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enry J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illiam Dean How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ark Tw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imply a 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tur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phen Cr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rank No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 help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191240"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odern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.E. Cumm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.S. Eli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illiam Faulk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720" rIns="90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 complex mix of conscious thoughts and unconscious des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arlem Renaissan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1" name="Content Placeholder 7" descr="(mod 9) Hayden Jeunesse.jpg"/>
          <p:cNvPicPr/>
          <p:nvPr/>
        </p:nvPicPr>
        <p:blipFill>
          <a:blip r:embed="rId1"/>
          <a:stretch/>
        </p:blipFill>
        <p:spPr>
          <a:xfrm>
            <a:off x="380880" y="1905120"/>
            <a:ext cx="4496040" cy="375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2" name=""/>
          <p:cNvSpPr txBox="1"/>
          <p:nvPr/>
        </p:nvSpPr>
        <p:spPr>
          <a:xfrm>
            <a:off x="4952520" y="1752120"/>
            <a:ext cx="3886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ndustrial needs of World War I create opportunity and lead to a massive migration of African Americans from South to North around 1915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y the mid-1920s, Harlem, a section of New York City, attains an almost wholly black population of 150,000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s “city within a city” produces poetry based on rhythms of spirituals, jazz, and the Blues, and diction based on the street talk of the ghetto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ymbolis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80520" y="16002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 form of expression in which the world of appearances is violently rearranged by artists who seek a different and more truthful version of reality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oes not just describe an object; tries to reflect the emotional effects of the object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mphasizes imagination over reason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istinct from religious, national, or psychological symbol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Born out of the belief that nature has lost its mystery due to scientific advances; the modern world is full of science, technology, poverty, violence, and spiritual corrup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5" name="Content Placeholder 4" descr="(mod2) O'Keeffe Ram's Head.jpg"/>
          <p:cNvPicPr/>
          <p:nvPr/>
        </p:nvPicPr>
        <p:blipFill>
          <a:blip r:embed="rId1"/>
          <a:stretch/>
        </p:blipFill>
        <p:spPr>
          <a:xfrm>
            <a:off x="4495680" y="1981080"/>
            <a:ext cx="4235400" cy="361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magis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7" name="Content Placeholder 4" descr="(mod4) Demuth Trees.jpg"/>
          <p:cNvPicPr/>
          <p:nvPr/>
        </p:nvPicPr>
        <p:blipFill>
          <a:blip r:embed="rId1"/>
          <a:stretch/>
        </p:blipFill>
        <p:spPr>
          <a:xfrm>
            <a:off x="220680" y="2209680"/>
            <a:ext cx="4589280" cy="32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8" name=""/>
          <p:cNvSpPr txBox="1"/>
          <p:nvPr/>
        </p:nvSpPr>
        <p:spPr>
          <a:xfrm>
            <a:off x="4876560" y="1905120"/>
            <a:ext cx="3886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Believes poetry is the purest form of literary expression because of its precise, clear, unqualified image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Believes an image can carry the whole poem’s ideas and emotion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Attempts to reform poetry—ridding it of prettiness, sentimentality, and artificiality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Concentrates on the raw power of the imag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Uses common speech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Does not employ elaborate metrics or stanza pattern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8:39:13Z</dcterms:created>
  <dc:creator>Stephen Joseph Fazio</dc:creator>
  <dc:description/>
  <dc:language>en-US</dc:language>
  <cp:lastModifiedBy>Stephen Joseph Fazio</cp:lastModifiedBy>
  <dcterms:modified xsi:type="dcterms:W3CDTF">2009-02-25T14:02:31Z</dcterms:modified>
  <cp:revision>27</cp:revision>
  <dc:subject/>
  <dc:title>How History Influences Texts</dc:title>
</cp:coreProperties>
</file>